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F3E-FE20-46F4-9E6C-32E09988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995-A334-4532-A2B8-CDA56DA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9D5-7EEA-49F0-8900-16651D07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725-2168-4A2B-A6A1-38CC7CF5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313-43B7-4460-9ADA-3B02DF4D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953-9B6B-4AA7-ACA1-6E00DCC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5C6-D14F-4645-84E2-ACAF01C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078-8F57-4F14-9192-63B298CC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1A4-75A9-4750-8C10-95A22216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57B-BB8D-4B67-AC25-135093CD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B81-E6DB-4755-8528-04A4923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7E7-BB17-4192-8A58-E167644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702D-CE2E-4BD6-B6D2-D5B673AD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895480" cy="81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58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61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Tom roller-sk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44956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5880" y="4551480"/>
            <a:ext cx="3048120" cy="85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8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93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96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speak Chin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5880" y="4551480"/>
            <a:ext cx="3048120" cy="85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18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30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33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2280" y="11430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and Rosy drink coff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81680" y="19810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4495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9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0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8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9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55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67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70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r father drive a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7" dur="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8" dur="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6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7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91320" y="4568760"/>
            <a:ext cx="3276360" cy="917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hlinkshowjump?jump=nextslide"/>
          </p:cNvPr>
          <p:cNvPicPr/>
          <p:nvPr/>
        </p:nvPicPr>
        <p:blipFill>
          <a:blip r:embed="rId3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9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9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04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07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snake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200400" y="209556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6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7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" action="ppaction://hlinkshowjump?jump=nextslide"/>
          </p:cNvPr>
          <p:cNvPicPr/>
          <p:nvPr/>
        </p:nvPicPr>
        <p:blipFill>
          <a:blip r:embed="rId3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229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6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41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44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turtles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200400" y="209556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1" dur="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2" dur="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8:52:48Z</dcterms:created>
  <dc:creator>Gabi Sandru</dc:creator>
  <dc:description/>
  <dc:language>en-US</dc:language>
  <cp:lastModifiedBy>Gabi Sandru</cp:lastModifiedBy>
  <dcterms:modified xsi:type="dcterms:W3CDTF">2010-02-05T23:38:45Z</dcterms:modified>
  <cp:revision>25</cp:revision>
  <dc:subject>abilities + pronouns</dc:subject>
  <dc:title>Personal Pronouns</dc:title>
</cp:coreProperties>
</file>